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803CAE-6286-42E8-885E-251409BEE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KKK March in Washington DC in 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Burial at sea for the officers and men of the USS Intrepid (CV-11) who lost their lives when the carrier was hit by Japanese bombs during operations in the Philippin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 few of the thousands of wedding rings the Germans removed from their victims to salvage the gold. U.S. troops found rings, watches, precious stones, eyeglasses, and gold fillings, near Buchenwald concentration cam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Fallout shelter built by Louis Severance adjacent to his home near Akron, Mich., includes a special ventilation and escape hatch, an entrance to his basement, tiny kitchen, running water, sanitary facilities, and a sleeping and living area for the family of four. The shelter cost about $1,000. It has a 10-inch reinforced concrete ceiling with thick earth cover and concrete walls. Severance says, 'Ever since I was convinced what damage H-Bombs can do, I've wanted to build the shelter. Just as with my chicken farm, when there's a need I build it."</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33ABF-3BFF-46D4-A8A2-F7CC40CE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6585-EFA4-4597-9BE7-790B3B6F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E4CF2-4FA5-45FA-A9F8-3B6F17909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63F58-3A0E-4078-9A67-0344358C6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792B1-5911-4AD0-A7EF-889DA816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05B9-E5FA-44EE-81E3-D088B03C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CF89E-0FC4-4A0E-9B12-42D508D2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F772-C477-4D58-81A1-C7BE606E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817F-31B9-4D9D-83AA-A4F292DD3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E5DB-CC94-4F31-AE94-66C0BC84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5062-400E-48C8-93A0-92F03DDE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E6D9-0A33-45D5-8389-3A1B8A88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50786B-0793-4C5A-842C-BB1FAE7A6B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Why history is often bor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1143000"/>
            <a:ext cx="9144000" cy="3886200"/>
          </a:xfrm>
          <a:prstGeom prst="rect">
            <a:avLst/>
          </a:prstGeom>
          <a:ln w="0">
            <a:noFill/>
          </a:ln>
        </p:spPr>
      </p:pic>
      <p:graphicFrame>
        <p:nvGraphicFramePr>
          <p:cNvPr id="52" name=""/>
          <p:cNvGraphicFramePr/>
          <p:nvPr/>
        </p:nvGraphicFramePr>
        <p:xfrm>
          <a:off x="457200" y="5072040"/>
          <a:ext cx="8458200" cy="1302840"/>
        </p:xfrm>
        <a:graphic>
          <a:graphicData uri="http://schemas.openxmlformats.org/drawingml/2006/table">
            <a:tbl>
              <a:tblPr/>
              <a:tblGrid>
                <a:gridCol w="8458200"/>
              </a:tblGrid>
              <a:tr h="1302840">
                <a:tc>
                  <a:txBody>
                    <a:bodyPr lIns="90000" rIns="90000" tIns="30456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Times New Roman"/>
                        </a:rPr>
                        <a:t>History should be </a:t>
                      </a:r>
                      <a:r>
                        <a:rPr b="0" lang="en-US" sz="2200" spc="-1" strike="noStrike" u="sng">
                          <a:solidFill>
                            <a:srgbClr val="000000"/>
                          </a:solidFill>
                          <a:uFillTx/>
                          <a:latin typeface="Times New Roman"/>
                        </a:rPr>
                        <a:t>more</a:t>
                      </a:r>
                      <a:r>
                        <a:rPr b="0" lang="en-US" sz="2200" spc="-1" strike="noStrike">
                          <a:solidFill>
                            <a:srgbClr val="000000"/>
                          </a:solidFill>
                          <a:latin typeface="Times New Roman"/>
                        </a:rPr>
                        <a:t> than just boring, isolated facts</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Times New Roman"/>
                        </a:rPr>
                        <a:t>History should be about helping us better understand the world around us</a:t>
                      </a:r>
                      <a:endParaRPr b="0" lang="en-US" sz="2200" spc="-1" strike="noStrike">
                        <a:solidFill>
                          <a:srgbClr val="000000"/>
                        </a:solidFill>
                        <a:latin typeface="Times New Roman"/>
                      </a:endParaRPr>
                    </a:p>
                  </a:txBody>
                  <a:tcPr anchor="t" marL="90000" marR="90000">
                    <a:lnL>
                      <a:noFill/>
                    </a:lnL>
                    <a:lnR>
                      <a:noFill/>
                    </a:lnR>
                    <a:lnT>
                      <a:noFill/>
                    </a:lnT>
                    <a:lnB>
                      <a:noFill/>
                    </a:lnB>
                    <a:solidFill>
                      <a:srgbClr val="ffd320"/>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162000"/>
            <a:ext cx="8458200" cy="6592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rcRect l="30061" t="76680" r="0" b="0"/>
          <a:stretch/>
        </p:blipFill>
        <p:spPr>
          <a:xfrm>
            <a:off x="380880" y="1828800"/>
            <a:ext cx="8382240" cy="3584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897200" y="0"/>
            <a:ext cx="53496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0" t="10000" r="59815" b="66670"/>
          <a:stretch/>
        </p:blipFill>
        <p:spPr>
          <a:xfrm>
            <a:off x="990720" y="1017720"/>
            <a:ext cx="7467480" cy="454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066680" y="0"/>
            <a:ext cx="65404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25502" t="49092" r="32503" b="10909"/>
          <a:stretch/>
        </p:blipFill>
        <p:spPr>
          <a:xfrm>
            <a:off x="1143000" y="914400"/>
            <a:ext cx="6553080" cy="5148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285840"/>
            <a:ext cx="7619760" cy="6286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rcRect l="0" t="23477" r="68720" b="0"/>
          <a:stretch/>
        </p:blipFill>
        <p:spPr>
          <a:xfrm>
            <a:off x="2590920" y="0"/>
            <a:ext cx="354312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9360"/>
            <a:ext cx="8610480" cy="681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ea typeface="Times New Roman"/>
              </a:rPr>
              <a:t>The </a:t>
            </a:r>
            <a:r>
              <a:rPr b="0" lang="en-US" sz="3200" spc="-1" strike="noStrike" u="sng">
                <a:solidFill>
                  <a:srgbClr val="ffffff"/>
                </a:solidFill>
                <a:uFillTx/>
                <a:latin typeface="Times New Roman"/>
                <a:ea typeface="Arial Unicode MS"/>
              </a:rPr>
              <a:t>big</a:t>
            </a:r>
            <a:r>
              <a:rPr b="0" lang="en-US" sz="3200" spc="-1" strike="noStrike">
                <a:solidFill>
                  <a:srgbClr val="ffffff"/>
                </a:solidFill>
                <a:latin typeface="Times New Roman"/>
                <a:ea typeface="Arial Unicode MS"/>
              </a:rPr>
              <a:t> goal here is for you to use the knowledge gained from history to develop your own ideas and understanding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ea typeface="Arial Unicode MS"/>
              </a:rPr>
              <a:t>What new knowledge did you gain when we removed the blinders on these photos?</a:t>
            </a: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We all naturally want to understand the world around us, but life is often very confus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What we see when we look around us are often just </a:t>
            </a:r>
            <a:r>
              <a:rPr b="0" i="1" lang="en-US" sz="3200" spc="-1" strike="noStrike">
                <a:solidFill>
                  <a:srgbClr val="ffffff"/>
                </a:solidFill>
                <a:latin typeface="Times New Roman"/>
              </a:rPr>
              <a:t>snapshots </a:t>
            </a:r>
            <a:r>
              <a:rPr b="0" lang="en-US" sz="3200" spc="-1" strike="noStrike">
                <a:solidFill>
                  <a:srgbClr val="ffffff"/>
                </a:solidFill>
                <a:latin typeface="Times New Roman"/>
              </a:rPr>
              <a:t>of a much bigger, longer story.</a:t>
            </a:r>
            <a:endParaRPr b="0" lang="en-US" sz="32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Slide descri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82880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1. Ku Klux Klan rally, Washington D.C. 1928</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2. World Trade Center, New York City, 9/11/01</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3.  U.S. Navy, Burial at sea, World War II</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4. Wedding rings stolen from murdered Jews at a Nazi concentration camp during the Holocaus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5. Bomb shelter, United States, 1960's (during the height of the Cold War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rcRect l="75690" t="41609" r="0" b="0"/>
          <a:stretch/>
        </p:blipFill>
        <p:spPr>
          <a:xfrm>
            <a:off x="2743200" y="304920"/>
            <a:ext cx="3379680" cy="632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rcRect l="30061" t="76680" r="0" b="0"/>
          <a:stretch/>
        </p:blipFill>
        <p:spPr>
          <a:xfrm>
            <a:off x="380880" y="1828800"/>
            <a:ext cx="8382240" cy="358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rcRect l="0" t="10000" r="59815" b="66670"/>
          <a:stretch/>
        </p:blipFill>
        <p:spPr>
          <a:xfrm>
            <a:off x="990720" y="1015920"/>
            <a:ext cx="7467480" cy="4546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rcRect l="25502" t="49092" r="32503" b="10909"/>
          <a:stretch/>
        </p:blipFill>
        <p:spPr>
          <a:xfrm>
            <a:off x="1143000" y="914400"/>
            <a:ext cx="6324480" cy="496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rcRect l="0" t="23477" r="68720" b="0"/>
          <a:stretch/>
        </p:blipFill>
        <p:spPr>
          <a:xfrm>
            <a:off x="2743200" y="0"/>
            <a:ext cx="354348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The job of the </a:t>
            </a:r>
            <a:r>
              <a:rPr b="0" lang="en-US" sz="3200" spc="-1" strike="noStrike" u="sng">
                <a:solidFill>
                  <a:srgbClr val="ffffff"/>
                </a:solidFill>
                <a:uFillTx/>
                <a:latin typeface="Times New Roman"/>
              </a:rPr>
              <a:t>historian</a:t>
            </a:r>
            <a:r>
              <a:rPr b="0" lang="en-US" sz="3200" spc="-1" strike="noStrike">
                <a:solidFill>
                  <a:srgbClr val="ffffff"/>
                </a:solidFill>
                <a:latin typeface="Times New Roman"/>
              </a:rPr>
              <a:t> is to figure out the bigger story behind the snapsho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As we “remove the blinders” and look more at an issue (or a photo), new knowledge is reveale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rcRect l="75690" t="41609" r="0" b="0"/>
          <a:stretch/>
        </p:blipFill>
        <p:spPr>
          <a:xfrm>
            <a:off x="2971800" y="380880"/>
            <a:ext cx="3257640" cy="609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2:02:56Z</dcterms:created>
  <dc:creator>peronto's</dc:creator>
  <dc:description/>
  <dc:language>en-US</dc:language>
  <cp:lastModifiedBy>Emily Dolci</cp:lastModifiedBy>
  <dcterms:modified xsi:type="dcterms:W3CDTF">2008-08-26T16:09:15Z</dcterms:modified>
  <cp:revision>11</cp:revision>
  <dc:subject/>
  <dc:title>PowerPoint Presentation</dc:title>
</cp:coreProperties>
</file>